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761-95B6-48FE-B1FD-D5EAD968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267-5EB3-4512-AD7C-551379AC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D76-042D-4F2C-BDE0-8271092F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4F3-EA41-47BA-B16C-076A4F80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FE9-570E-4D75-B754-AB90D5CE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7DB-88DA-46A9-B3E2-80B36F0C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F7E-A862-4116-B192-7DEC70A9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1C1-1997-4C0A-9709-AA9A1F2D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8BE-DF9D-49F6-BDB9-B2BFD02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FC8-0317-4051-AD09-04CCE28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4C9-B54C-427C-9371-E35B026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76F-EF27-48CA-BB81-8DDA8098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8498-A77B-4D17-8162-E6DF2FB61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848720" cy="18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уравнений и неравенств, содержащих переменную под знаком модул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5600" y="5105520"/>
            <a:ext cx="240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ы проек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: Купцова Р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к: Носко Ег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неравенств, содержащих переменную под знаком модуля, находится аналогично решению уравнений подобного в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1533600" cy="124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хорошо разобраться с уравнениями и неравенствами, содержащие переменную под знаком модуля, желательно предварительно повторить решение неравенств с одной переменной методом интервалов, который основан на свойстве непрерывных функций и провести самостоятельную работу на 2 вариа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9" descr=""/>
          <p:cNvPicPr/>
          <p:nvPr/>
        </p:nvPicPr>
        <p:blipFill>
          <a:blip r:embed="rId1"/>
          <a:srcRect l="22692" t="34247" r="15301" b="10636"/>
          <a:stretch/>
        </p:blipFill>
        <p:spPr>
          <a:xfrm>
            <a:off x="1908000" y="2276640"/>
            <a:ext cx="6048720" cy="403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работки навыков решения  уравнений и неравенств, содержащих переменную под знаком модуля,  предлагаю следующую серию задач (правильные ответы выделены красным цве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18997" t="22439" r="16032" b="22439"/>
          <a:stretch/>
        </p:blipFill>
        <p:spPr>
          <a:xfrm>
            <a:off x="874800" y="1857240"/>
            <a:ext cx="719748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rcRect l="18502" t="26835" r="15877" b="14106"/>
          <a:stretch/>
        </p:blipFill>
        <p:spPr>
          <a:xfrm>
            <a:off x="357120" y="642960"/>
            <a:ext cx="8132760" cy="5703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работки навыков работы по данной теме можно предложить в качестве самостоятельной или контрольной работы следующие кар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" descr="C:\Documents and Settings\1\Мои документы\My Pictures\Scan Pictures\20090316\Image1.bmp"/>
          <p:cNvPicPr/>
          <p:nvPr/>
        </p:nvPicPr>
        <p:blipFill>
          <a:blip r:embed="rId1"/>
          <a:srcRect l="0" t="0" r="0" b="32395"/>
          <a:stretch/>
        </p:blipFill>
        <p:spPr>
          <a:xfrm>
            <a:off x="1071720" y="1428840"/>
            <a:ext cx="6791040" cy="5278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заменационный материал составлен в соответствии с программой по алгебре и началам анализа для классов общеобразовательного уровня. Работа содержит 20 заданий. Из них 10 заданий (А1 – А10) с выбором ответа, 7 заданий (В1 – В7) с кратким ответом и 3 задания (С1 – С3) с развернутым от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состоит из двух ча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ржит 13 заданий (А1 – А10, В1 – В3) базового уровня сложности. Эти задания направлены на проверку усвоения основных свойств понятий, владения основными алгоритмами, умения решать простейшие уравнения и нераве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держит 6 заданий (В4 –В7, С1, С2) повышенного уровня сложности и одно задание (С3) высокого уровня сложности. При выполнении этих заданий проверяется умение учащихся применять знания в несколько изменен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заданиях С1 – С3 учащиеся должны записать решения и обосновать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ыполнения  работы 3 ч (180 м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стема оценивания выполне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е задание типа А и В оценивается 1 баллом, задание С1 – 2 баллами, С2 и С3 – 4 бал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28880" y="5140440"/>
          <a:ext cx="5040360" cy="1717560"/>
        </p:xfrm>
        <a:graphic>
          <a:graphicData uri="http://schemas.openxmlformats.org/drawingml/2006/table">
            <a:tbl>
              <a:tblPr/>
              <a:tblGrid>
                <a:gridCol w="2663640"/>
                <a:gridCol w="2376720"/>
              </a:tblGrid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–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–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–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 –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1214280" y="357120"/>
            <a:ext cx="70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 в 10-м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ение уравнения из части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 уравнение                                                          где   а  – параме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Решение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ические точки: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- 3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&lt; – 3              – 3 &lt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 1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≥ 1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                      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     –                          +                        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–                           –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 данное неравенство на каждом из промежут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&lt; – 3,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&lt; – 3,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  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ем, при каких значениях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равнение на данном промежутке будет иметь корень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 неравенство:                      Ответ: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&lt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 1,                        – 3 &lt;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 1,    Решений нет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≥ 1,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≥ 1,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.    При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                    пр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= 1,   при всех  а кроме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уравнение можно решить и при другой постановке вопроса: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йти число корней уравнения при всех значениях параметр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: 2 корня при  – 1 &lt;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 1, 1 корень при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1  и при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71760" y="1042920"/>
            <a:ext cx="1895400" cy="209520"/>
          </a:xfrm>
          <a:prstGeom prst="rect">
            <a:avLst/>
          </a:prstGeom>
          <a:ln w="0">
            <a:noFill/>
          </a:ln>
        </p:spPr>
      </p:pic>
      <p:cxnSp>
        <p:nvCxnSpPr>
          <p:cNvPr id="111" name="AutoShape 3"/>
          <p:cNvCxnSpPr/>
          <p:nvPr/>
        </p:nvCxnSpPr>
        <p:spPr>
          <a:xfrm flipV="1">
            <a:off x="785880" y="2214360"/>
            <a:ext cx="369648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"/>
          <p:cNvSpPr/>
          <p:nvPr/>
        </p:nvSpPr>
        <p:spPr>
          <a:xfrm>
            <a:off x="785880" y="3071880"/>
            <a:ext cx="90360" cy="428400"/>
          </a:xfrm>
          <a:custGeom>
            <a:avLst/>
            <a:gdLst>
              <a:gd name="textAreaLeft" fmla="*/ 57960 w 90360"/>
              <a:gd name="textAreaRight" fmla="*/ 90720 w 9036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786040" y="3071880"/>
            <a:ext cx="90360" cy="428400"/>
          </a:xfrm>
          <a:custGeom>
            <a:avLst/>
            <a:gdLst>
              <a:gd name="textAreaLeft" fmla="*/ 57960 w 90360"/>
              <a:gd name="textAreaRight" fmla="*/ 90720 w 9036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14760" y="3286080"/>
            <a:ext cx="771480" cy="29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247680" cy="295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4"/>
          <a:stretch/>
        </p:blipFill>
        <p:spPr>
          <a:xfrm>
            <a:off x="2143080" y="3929040"/>
            <a:ext cx="790560" cy="295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5"/>
          <a:stretch/>
        </p:blipFill>
        <p:spPr>
          <a:xfrm>
            <a:off x="3500280" y="3929040"/>
            <a:ext cx="86688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11"/>
          <p:cNvSpPr/>
          <p:nvPr/>
        </p:nvSpPr>
        <p:spPr>
          <a:xfrm>
            <a:off x="1071720" y="4214880"/>
            <a:ext cx="90360" cy="485640"/>
          </a:xfrm>
          <a:custGeom>
            <a:avLst/>
            <a:gdLst>
              <a:gd name="textAreaLeft" fmla="*/ 57960 w 90360"/>
              <a:gd name="textAreaRight" fmla="*/ 90720 w 90360"/>
              <a:gd name="textAreaTop" fmla="*/ 12600 h 485640"/>
              <a:gd name="textAreaBottom" fmla="*/ 473040 h 48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2857680" y="4214880"/>
            <a:ext cx="90360" cy="485640"/>
          </a:xfrm>
          <a:custGeom>
            <a:avLst/>
            <a:gdLst>
              <a:gd name="textAreaLeft" fmla="*/ 57960 w 90360"/>
              <a:gd name="textAreaRight" fmla="*/ 90720 w 90360"/>
              <a:gd name="textAreaTop" fmla="*/ 12600 h 485640"/>
              <a:gd name="textAreaBottom" fmla="*/ 473040 h 48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1071720" y="4857840"/>
            <a:ext cx="90360" cy="485640"/>
          </a:xfrm>
          <a:custGeom>
            <a:avLst/>
            <a:gdLst>
              <a:gd name="textAreaLeft" fmla="*/ 57960 w 90360"/>
              <a:gd name="textAreaRight" fmla="*/ 90720 w 90360"/>
              <a:gd name="textAreaTop" fmla="*/ 12600 h 485640"/>
              <a:gd name="textAreaBottom" fmla="*/ 473040 h 48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2857680" y="4786200"/>
            <a:ext cx="90360" cy="486000"/>
          </a:xfrm>
          <a:custGeom>
            <a:avLst/>
            <a:gdLst>
              <a:gd name="textAreaLeft" fmla="*/ 57960 w 90360"/>
              <a:gd name="textAreaRight" fmla="*/ 90720 w 90360"/>
              <a:gd name="textAreaTop" fmla="*/ 12600 h 486000"/>
              <a:gd name="textAreaBottom" fmla="*/ 473400 h 4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"/>
          <p:cNvPicPr/>
          <p:nvPr/>
        </p:nvPicPr>
        <p:blipFill>
          <a:blip r:embed="rId6"/>
          <a:stretch/>
        </p:blipFill>
        <p:spPr>
          <a:xfrm>
            <a:off x="4071960" y="5072040"/>
            <a:ext cx="285840" cy="231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7"/>
          <a:stretch/>
        </p:blipFill>
        <p:spPr>
          <a:xfrm>
            <a:off x="1285920" y="5429160"/>
            <a:ext cx="581040" cy="295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"/>
          <p:cNvPicPr/>
          <p:nvPr/>
        </p:nvPicPr>
        <p:blipFill>
          <a:blip r:embed="rId8"/>
          <a:stretch/>
        </p:blipFill>
        <p:spPr>
          <a:xfrm>
            <a:off x="2286000" y="5500800"/>
            <a:ext cx="90504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"/>
          <p:cNvPicPr/>
          <p:nvPr/>
        </p:nvPicPr>
        <p:blipFill>
          <a:blip r:embed="rId9"/>
          <a:stretch/>
        </p:blipFill>
        <p:spPr>
          <a:xfrm>
            <a:off x="4071960" y="6357960"/>
            <a:ext cx="31428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"/>
          <p:cNvPicPr/>
          <p:nvPr/>
        </p:nvPicPr>
        <p:blipFill>
          <a:blip r:embed="rId10"/>
          <a:stretch/>
        </p:blipFill>
        <p:spPr>
          <a:xfrm>
            <a:off x="5143680" y="6357960"/>
            <a:ext cx="133200" cy="209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онов А.Я. и др. Система тренировочных задач и упражнений по математике. – М.: Просвещение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мор В.С. Повторяем и систематизируем неполный курс алгебры и начала анализа. – М.: - Просвещение: Владос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лехник С. Н. Потапов М.К., Пасечник П.И.  Уравнения и неравенства. Нестандартные методы решения: Справочник/– М.: Факториал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рмак Н.В, Квасова И.В, Филонова Л.В, Подготовка к тестированию по математике. Пособие для учащихся и абитуриентов. Благовещенск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рнал «Математика в школе» №20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льдич В.А. Решение уравнений и неравенств.– Изд. Дом Литера, Санкт – Петербург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ные экзамены в тестовой форме. \ Сост. О.В. Вертелецкая. М.: Чистые пруды, 2008 – (Библиотечка «Первого сентября» серия «Математика». Вып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 т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уальность данной темы возникла с открытием в нашей гимназии двух профилей: информационно-технологический и социально-экономи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2008 – 2009 учебного года в 11 – х классах вводится ЕГЭ  по математике в качестве обязательного, в который могут быть включены задачи по данной те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тизация необходимого математическ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ть образцы решений стандартных заданий и предложить наборы задач для тренировочного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лечь учащегося 10 класса для оказания информационной поддержки, а также в подборе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щить учащихся к работе с математической литера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ить логические приемы мышления и способствовать их осмыслению, развитию образного ассоциативн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ить диалогичность процесса обучения математике, оказать помощь при подготовке к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3180387"/>
          <p:cNvPicPr/>
          <p:nvPr/>
        </p:nvPicPr>
        <p:blipFill>
          <a:blip r:embed="rId1"/>
          <a:stretch/>
        </p:blipFill>
        <p:spPr>
          <a:xfrm>
            <a:off x="4857840" y="142920"/>
            <a:ext cx="3960720" cy="2963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499680"/>
            <a:ext cx="8400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соз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а решено б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ь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класса Носко Е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зработки мультим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йной  презентации, позволяющей любому старшекласснику самостоятельно заниматься по данной теме и осуществлять самоконтро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был создан буклет для учащихся, который содержит необходимый теоретический материал для решения уравнений и неравен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2743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авнения и неравенства, содержащие переменную под знаком моду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ем действительного числ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само число, ес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ложное число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293236"/>
          <p:cNvPicPr/>
          <p:nvPr/>
        </p:nvPicPr>
        <p:blipFill>
          <a:blip r:embed="rId1"/>
          <a:stretch/>
        </p:blipFill>
        <p:spPr>
          <a:xfrm>
            <a:off x="826920" y="1700280"/>
            <a:ext cx="1565280" cy="115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7164360" y="2252520"/>
            <a:ext cx="503280" cy="32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812000" y="2637000"/>
            <a:ext cx="430200" cy="31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5" descr=""/>
          <p:cNvPicPr/>
          <p:nvPr/>
        </p:nvPicPr>
        <p:blipFill>
          <a:blip r:embed="rId4"/>
          <a:stretch/>
        </p:blipFill>
        <p:spPr>
          <a:xfrm>
            <a:off x="6948360" y="3645000"/>
            <a:ext cx="503280" cy="2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"/>
          <p:cNvPicPr/>
          <p:nvPr/>
        </p:nvPicPr>
        <p:blipFill>
          <a:blip r:embed="rId5"/>
          <a:stretch/>
        </p:blipFill>
        <p:spPr>
          <a:xfrm>
            <a:off x="4068720" y="3860640"/>
            <a:ext cx="689040" cy="36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"/>
          <p:cNvPicPr/>
          <p:nvPr/>
        </p:nvPicPr>
        <p:blipFill>
          <a:blip r:embed="rId6"/>
          <a:stretch/>
        </p:blipFill>
        <p:spPr>
          <a:xfrm>
            <a:off x="7021440" y="4076640"/>
            <a:ext cx="358920" cy="2635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26"/>
          <p:cNvSpPr/>
          <p:nvPr/>
        </p:nvSpPr>
        <p:spPr>
          <a:xfrm>
            <a:off x="4789440" y="3645000"/>
            <a:ext cx="432000" cy="806400"/>
          </a:xfrm>
          <a:custGeom>
            <a:avLst/>
            <a:gdLst>
              <a:gd name="textAreaLeft" fmla="*/ 276120 w 432000"/>
              <a:gd name="textAreaRight" fmla="*/ 432360 w 432000"/>
              <a:gd name="textAreaTop" fmla="*/ 20880 h 806400"/>
              <a:gd name="textAreaBottom" fmla="*/ 785520 h 8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0" y="239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5292720" y="2961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  есл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1476360" y="378504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5149800" y="320472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 есл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1080" y="41533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равнения вида         =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решений 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данное уравнение равноси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окупности уравнений, а имен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  а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авнения и неравенства, содержащие переменную под знаком моду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3429000" y="1714680"/>
            <a:ext cx="720720" cy="32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tretch/>
        </p:blipFill>
        <p:spPr>
          <a:xfrm>
            <a:off x="1403280" y="4941720"/>
            <a:ext cx="865080" cy="3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16360" y="4941720"/>
            <a:ext cx="306360" cy="354240"/>
          </a:xfrm>
          <a:prstGeom prst="rect">
            <a:avLst/>
          </a:prstGeom>
          <a:ln w="0">
            <a:noFill/>
          </a:ln>
        </p:spPr>
      </p:pic>
      <p:sp>
        <p:nvSpPr>
          <p:cNvPr id="70" name="Line 12"/>
          <p:cNvSpPr/>
          <p:nvPr/>
        </p:nvSpPr>
        <p:spPr>
          <a:xfrm>
            <a:off x="3348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3348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34800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"/>
          <p:cNvPicPr/>
          <p:nvPr/>
        </p:nvPicPr>
        <p:blipFill>
          <a:blip r:embed="rId4"/>
          <a:stretch/>
        </p:blipFill>
        <p:spPr>
          <a:xfrm>
            <a:off x="3995640" y="4519440"/>
            <a:ext cx="576360" cy="3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"/>
          <p:cNvPicPr/>
          <p:nvPr/>
        </p:nvPicPr>
        <p:blipFill>
          <a:blip r:embed="rId5"/>
          <a:stretch/>
        </p:blipFill>
        <p:spPr>
          <a:xfrm>
            <a:off x="4000680" y="5429160"/>
            <a:ext cx="576000" cy="343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ение вида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=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вносильно уравнен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ения вида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=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х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)  равносильно совокупности сист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авнения и неравенства, содержащие переменную под знаком моду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647640" cy="290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684360" cy="27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2195640" y="2708280"/>
            <a:ext cx="306360" cy="35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2500200" y="2714760"/>
            <a:ext cx="3095640" cy="35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6084720" y="2708280"/>
            <a:ext cx="306720" cy="353880"/>
          </a:xfrm>
          <a:prstGeom prst="rect">
            <a:avLst/>
          </a:prstGeom>
          <a:ln w="0">
            <a:noFill/>
          </a:ln>
        </p:spPr>
      </p:pic>
      <p:sp>
        <p:nvSpPr>
          <p:cNvPr id="82" name="Line 10"/>
          <p:cNvSpPr/>
          <p:nvPr/>
        </p:nvSpPr>
        <p:spPr>
          <a:xfrm>
            <a:off x="651672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6516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651672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"/>
          <p:cNvPicPr/>
          <p:nvPr/>
        </p:nvPicPr>
        <p:blipFill>
          <a:blip r:embed="rId6"/>
          <a:stretch/>
        </p:blipFill>
        <p:spPr>
          <a:xfrm>
            <a:off x="2700360" y="4221000"/>
            <a:ext cx="649440" cy="2923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4"/>
          <p:cNvSpPr/>
          <p:nvPr/>
        </p:nvSpPr>
        <p:spPr>
          <a:xfrm>
            <a:off x="1835280" y="4869000"/>
            <a:ext cx="142920" cy="107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4716360" y="4869000"/>
            <a:ext cx="142920" cy="107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7"/>
          <a:stretch/>
        </p:blipFill>
        <p:spPr>
          <a:xfrm>
            <a:off x="2700360" y="5661000"/>
            <a:ext cx="43164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"/>
          <p:cNvPicPr/>
          <p:nvPr/>
        </p:nvPicPr>
        <p:blipFill>
          <a:blip r:embed="rId8"/>
          <a:stretch/>
        </p:blipFill>
        <p:spPr>
          <a:xfrm>
            <a:off x="5508720" y="5661000"/>
            <a:ext cx="43164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6" descr=""/>
          <p:cNvPicPr/>
          <p:nvPr/>
        </p:nvPicPr>
        <p:blipFill>
          <a:blip r:embed="rId9"/>
          <a:stretch/>
        </p:blipFill>
        <p:spPr>
          <a:xfrm>
            <a:off x="585720" y="2620800"/>
            <a:ext cx="31608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17" descr=""/>
          <p:cNvPicPr/>
          <p:nvPr/>
        </p:nvPicPr>
        <p:blipFill>
          <a:blip r:embed="rId10"/>
          <a:stretch/>
        </p:blipFill>
        <p:spPr>
          <a:xfrm>
            <a:off x="1444680" y="2620800"/>
            <a:ext cx="3175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ения ви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ешаются методом интервалов. Для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ят критические точки, т.е. значени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и которых выражения, стоящие под знаком модуля, обращаются в ну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ивают область допустим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ромежутки, на каждом их которых выражения под знаком модуля сохраняют зна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вают все модули на каждом из найденных промежутков и решают полученные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найденных промежутков составляет множество решений заданного урав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042920" y="27468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равнения и неравенства, содержащие переменную под знаком моду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863640" cy="26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2663640" cy="27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8:49:19Z</dcterms:created>
  <dc:creator>XTreme</dc:creator>
  <dc:description/>
  <dc:language>en-US</dc:language>
  <cp:lastModifiedBy>Windows XP SP3</cp:lastModifiedBy>
  <dcterms:modified xsi:type="dcterms:W3CDTF">2009-10-24T11:02:10Z</dcterms:modified>
  <cp:revision>16</cp:revision>
  <dc:subject/>
  <dc:title>Решение уравнений и неравенств, содержащих переменную под знаком модуля </dc:title>
</cp:coreProperties>
</file>